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844A9-92EB-419F-9302-EEBF84B89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027BA-F6AC-4415-9517-9588776E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2B5E7-4FCE-4A72-85E1-5CE37D8C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17C2C-6DBA-4ECA-A83B-29E90B0A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43F9-F052-4D65-BA27-8E820492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B94D-B121-4CE9-882D-F05C55F5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0D16A-6A64-4AE4-B660-F3EF94D8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1C6D-F876-45F3-8F23-D5C8A999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6690-718A-49EC-B250-7850FDAB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4831-478D-4277-B05A-5376FD21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C3AF-3401-4920-B070-7D1CBA9B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F9999-DF27-4D81-879A-0EE6D2BA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2108-0E3C-4A71-9F11-09C6479C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8D9F-2FDE-41DD-94FB-56CFEAB8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FAAED-3485-42B0-8B9F-E6770549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8D3E-B6AD-4F83-8751-FF0D0F27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BE54-D43A-43B9-AD9C-737FAF98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C7C20-C060-4E62-BB2E-6226C0CE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9CF2E-EBFB-4DA7-9C50-F57A0183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D1F0F-59E0-4BA8-8359-AB5BBBD0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E286-6397-44AA-9B80-36DD4690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73D43-95AD-4C62-A2B5-8032B1AA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26E0-FEFF-499F-9E00-1567243B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32AF2-B3EF-47AE-890D-06578AEF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2067-D6D7-4A65-9E14-7B749E0369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CF7A-83AD-4848-99D6-DB9E148B98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57320" y="4500360"/>
            <a:ext cx="6019560" cy="194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ы ввода/вывод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3628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6 IC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захвата таймера/счетчика 1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5 Т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4 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тактовый вход таймера/счетчика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3 INT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2 INTO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ход внешних прерываний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т 1 TX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ыход передатчика U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324000" y="765000"/>
            <a:ext cx="822960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39640" y="1989000"/>
            <a:ext cx="82296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-разрядный — двунаправленный для ввода/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выводов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435880" cy="4187880"/>
        </p:xfrm>
        <a:graphic>
          <a:graphicData uri="http://schemas.openxmlformats.org/drawingml/2006/table">
            <a:tbl>
              <a:tblPr/>
              <a:tblGrid>
                <a:gridCol w="1738440"/>
                <a:gridCol w="66974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положи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AIN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(отрицательный вход аналогового компаратор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С1 (выход совпадения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OS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MIS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ыход данных для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CK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тактовых импульсов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SP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15832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В 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229600" cy="166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 8 битов порта В при использовании для ввода/вывода одинак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лияние DDBn на выводы порта 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2133720"/>
          <a:ext cx="8229600" cy="3744720"/>
        </p:xfrm>
        <a:graphic>
          <a:graphicData uri="http://schemas.openxmlformats.org/drawingml/2006/table">
            <a:tbl>
              <a:tblPr/>
              <a:tblGrid>
                <a:gridCol w="861840"/>
                <a:gridCol w="957240"/>
                <a:gridCol w="1202040"/>
                <a:gridCol w="2306520"/>
                <a:gridCol w="2901960"/>
              </a:tblGrid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DD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ORTB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одтягивающий резис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Комментар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ретье состоя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Hi-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Вп источник тока,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 Unicode MS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если соединен с зем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ход установлен в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7 S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тактовой частоты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6 MISO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5 MOS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ход данных для S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т 3 ОС 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— выход совпа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PORT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-разрядный двунаправленный со встроенными подтягивающими регистрами. Выходные буферы порта могут поглощать ток до 20 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ыводы используются как входы и на них подан низкий уровень, то при подключении подтягивающих резисторов они являются источниками то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льтернативные функции порта 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539640" y="2971800"/>
            <a:ext cx="4038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468360" y="5373720"/>
            <a:ext cx="828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133720"/>
          <a:ext cx="8229600" cy="3886200"/>
        </p:xfrm>
        <a:graphic>
          <a:graphicData uri="http://schemas.openxmlformats.org/drawingml/2006/table">
            <a:tbl>
              <a:tblPr/>
              <a:tblGrid>
                <a:gridCol w="2444760"/>
                <a:gridCol w="5784840"/>
              </a:tblGrid>
              <a:tr h="50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Выв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Альтернативная фу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R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TXD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ыход данных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UAR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O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NT1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(вход внешнего прерывания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О (внешний вход таймера/счетчика 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3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Т1 (внешний вход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PD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ICP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(вход захвата таймера/счетчика 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р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ак порт ввода/вывода общего назна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т DDDn регистра DDRD выбирает направление передачи дан­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установлен, вывод сконфигурирован как вы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бит сброшен — вывод сконфигурирован как вх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PORTDn установлен и вывод сконфигурирован как вход, включается КМОП подтягивающий резисто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тключения резистора PORTDn должен быть сброшен или вывод должен быть сконфигурирован как вы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35Z</dcterms:modified>
  <cp:revision>10</cp:revision>
  <dc:subject/>
  <dc:title>Микропроцессорные системы</dc:title>
</cp:coreProperties>
</file>